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38.jpeg" ContentType="image/jpeg"/>
  <Override PartName="/ppt/media/image34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jpeg" ContentType="image/jpeg"/>
  <Override PartName="/ppt/media/image44.png" ContentType="image/png"/>
  <Override PartName="/ppt/media/image41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13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43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523-9D9E-4C99-A3A9-192A6594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3B6-B58E-4C3A-AAD6-F0AD414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0D6-C2FF-4EB3-A577-EA4E259E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FE9-401B-4913-9D89-E55E191C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EF8-395B-466E-8CAA-E228724F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0D0F-DC5D-4D9B-9CED-33F4C106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396A-9F0D-4AB6-9921-74F6EED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1FCB-8935-45F5-8F51-48412A67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A61D-0475-460C-93B6-595B950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B0D5-9357-4F33-85B9-0C700DD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1DC1-06D0-400B-A4A2-F6A5938A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386-FA42-4CAD-BE04-6E40DFBB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C50F-9E47-42FC-8672-26A00A3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0B8D-5B5F-45A5-9E35-F09638D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DCD9-81A4-493A-A538-4971D494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0E00-03EE-4B18-BBDE-E5B72AB4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32BA-8134-4587-A590-08D4055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323-E865-47B3-8D13-A7561A8A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FE5-1113-47AB-ADCF-2E2E202E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65A-42D9-45EC-9F57-FF10F54A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6016-855B-4306-9665-5D398B09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53B-21E8-4C50-91E0-6A15A8A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F6F-163C-42B1-8A2B-7237C2B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407-1219-4527-A7C9-BB64166D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BC29-DB86-46E7-8631-9E2C82269E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6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600" y="3756600"/>
              <a:ext cx="585756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95CD-6D39-42B2-AE87-5C64BC85EB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86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87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B83-8F64-49D2-B618-59518A2DCE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89" name="pole tekstowe 9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1" name="Prostokąt zaokrąglony 11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rostokąt 12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Diagram 14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ole tekstowe 7"/>
          <p:cNvSpPr/>
          <p:nvPr/>
        </p:nvSpPr>
        <p:spPr>
          <a:xfrm>
            <a:off x="324000" y="260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często mylona jest z dwoma pojęciami pokrewnym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– charakterem i temperam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8"/>
          <p:cNvSpPr/>
          <p:nvPr/>
        </p:nvSpPr>
        <p:spPr>
          <a:xfrm>
            <a:off x="395280" y="1341360"/>
            <a:ext cx="52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harakter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o cechy nabywane w trakcie wychowania, wskazują na pewien stopień konformizmu jednostki wobec obowiązujących standardów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10"/>
          <p:cNvSpPr/>
          <p:nvPr/>
        </p:nvSpPr>
        <p:spPr>
          <a:xfrm>
            <a:off x="395280" y="2997360"/>
            <a:ext cx="78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tomiast nie odnosi się do oddziaływań socjalizacyjnych, lecz do podstawowej biologicznej predyspozycji jednostki do przejawiania określonych zachowań i specyficznych wzorców reakcji emocjonalnych, zmian nastroju oraz wysokiego lub niskiego progu wrażliw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emperament to dynami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trona osobow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charakterystyczna dla każdej jednostki i uwarunkowana biologicznie/genetycznie siła oraz szybkość reagowania. Chodzi tu głównie o reakcje emocjonalne, ich trwałość, siłę i częstotli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796000" y="907920"/>
            <a:ext cx="233676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8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Dowolny kształt 12"/>
          <p:cNvSpPr/>
          <p:nvPr/>
        </p:nvSpPr>
        <p:spPr>
          <a:xfrm>
            <a:off x="1440000" y="2133720"/>
            <a:ext cx="2844720" cy="21589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elanchol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Dowolny kształt 13"/>
          <p:cNvSpPr/>
          <p:nvPr/>
        </p:nvSpPr>
        <p:spPr>
          <a:xfrm>
            <a:off x="4284720" y="2133720"/>
            <a:ext cx="2843280" cy="21589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156600" bIns="69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oler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Dowolny kształt 14"/>
          <p:cNvSpPr/>
          <p:nvPr/>
        </p:nvSpPr>
        <p:spPr>
          <a:xfrm>
            <a:off x="1440000" y="4292640"/>
            <a:ext cx="2844720" cy="216072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flegmaty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Dowolny kształt 16"/>
          <p:cNvSpPr/>
          <p:nvPr/>
        </p:nvSpPr>
        <p:spPr>
          <a:xfrm>
            <a:off x="4284720" y="4292640"/>
            <a:ext cx="2843280" cy="216072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56600" rIns="156600" tIns="696600" bIns="15660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angwinicz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olny kształt 17"/>
          <p:cNvSpPr/>
          <p:nvPr/>
        </p:nvSpPr>
        <p:spPr>
          <a:xfrm>
            <a:off x="3166920" y="3645000"/>
            <a:ext cx="2233800" cy="1296720"/>
          </a:xfrm>
          <a:prstGeom prst="pie">
            <a:avLst/>
          </a:prstGeom>
          <a:solidFill>
            <a:srgbClr val="e8d0d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7240" rIns="147240" tIns="147240" bIns="147240" anchor="ctr">
            <a:noAutofit/>
          </a:bodyPr>
          <a:p>
            <a:pPr algn="ctr"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alen wyróżnił cztery typy temperamen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upa 18"/>
          <p:cNvGrpSpPr/>
          <p:nvPr/>
        </p:nvGrpSpPr>
        <p:grpSpPr>
          <a:xfrm>
            <a:off x="539640" y="333360"/>
            <a:ext cx="7632720" cy="1486080"/>
            <a:chOff x="539640" y="333360"/>
            <a:chExt cx="7632720" cy="1486080"/>
          </a:xfrm>
        </p:grpSpPr>
        <p:sp>
          <p:nvSpPr>
            <p:cNvPr id="196" name="pole tekstowe 7"/>
            <p:cNvSpPr/>
            <p:nvPr/>
          </p:nvSpPr>
          <p:spPr>
            <a:xfrm>
              <a:off x="2051640" y="477000"/>
              <a:ext cx="61207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ierwszą i najpopularniejszą teorię temperamentu opracował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Galen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, opierając się na koncepcji Hipokratesa o równowadze czterech płynów ustrojowych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krwi, żółci, czarnej żółci i śluzu (flegmy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2" descr=""/>
            <p:cNvPicPr/>
            <p:nvPr/>
          </p:nvPicPr>
          <p:blipFill>
            <a:blip r:embed="rId2"/>
            <a:stretch/>
          </p:blipFill>
          <p:spPr>
            <a:xfrm>
              <a:off x="539640" y="333360"/>
              <a:ext cx="1440000" cy="1486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pole tekstowe 7"/>
          <p:cNvSpPr/>
          <p:nvPr/>
        </p:nvSpPr>
        <p:spPr>
          <a:xfrm>
            <a:off x="395280" y="549360"/>
            <a:ext cx="7777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cholery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onny do zachowań agresywnych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ęsto odczuwa niezadowolenie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iezawodny, nie boi się przeszkód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relacjach z innymi kładzie nacisk na własne „ja”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doznania emocjonalne są trwałe, a reakcje behawioralne szybkie, silne, nieregular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ole tekstowe 8"/>
          <p:cNvSpPr/>
          <p:nvPr/>
        </p:nvSpPr>
        <p:spPr>
          <a:xfrm>
            <a:off x="395280" y="3716280"/>
            <a:ext cx="7848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angwin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zbyt wrażliwy i bardzo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wesołym i pogodnym oportunistą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otwarty, dosyć subtel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niezwykle zmienne zainteresowania – ta niestałość i brak równowagi może być problemem dla otoczeni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rzejawia nadmierną ekspresję emocjonalną, dlatego inni mogą mniemać o wyjątkowej sile jego uczu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3"/>
          <a:stretch/>
        </p:blipFill>
        <p:spPr>
          <a:xfrm>
            <a:off x="5508720" y="476280"/>
            <a:ext cx="25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04" name="Obraz 10" descr="ludzie76.jpg"/>
          <p:cNvPicPr/>
          <p:nvPr/>
        </p:nvPicPr>
        <p:blipFill>
          <a:blip r:embed="rId14"/>
          <a:stretch/>
        </p:blipFill>
        <p:spPr>
          <a:xfrm>
            <a:off x="5651640" y="3284640"/>
            <a:ext cx="23857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upa 12"/>
          <p:cNvGrpSpPr/>
          <p:nvPr/>
        </p:nvGrpSpPr>
        <p:grpSpPr>
          <a:xfrm>
            <a:off x="395280" y="3573360"/>
            <a:ext cx="7777080" cy="2633040"/>
            <a:chOff x="395280" y="3573360"/>
            <a:chExt cx="7777080" cy="2633040"/>
          </a:xfrm>
        </p:grpSpPr>
        <p:sp>
          <p:nvSpPr>
            <p:cNvPr id="209" name="pole tekstowe 8"/>
            <p:cNvSpPr/>
            <p:nvPr/>
          </p:nvSpPr>
          <p:spPr>
            <a:xfrm>
              <a:off x="395280" y="3644640"/>
              <a:ext cx="7777080" cy="25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yp flegmatyczny: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zbyt wrażliwy i niezbyt impulsyw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równoważony i niewzruszo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budzają go tylko bardzo silne bodźce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ego emocje są selektywne i pogłębione, dotyczą niewielu wybranych obiektów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raczej bierny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98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bardzo tolerancyjny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2" descr=""/>
            <p:cNvPicPr/>
            <p:nvPr/>
          </p:nvPicPr>
          <p:blipFill>
            <a:blip r:embed="rId8"/>
            <a:stretch/>
          </p:blipFill>
          <p:spPr>
            <a:xfrm>
              <a:off x="5508000" y="3573360"/>
              <a:ext cx="2194920" cy="139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ole tekstowe 7"/>
          <p:cNvSpPr/>
          <p:nvPr/>
        </p:nvSpPr>
        <p:spPr>
          <a:xfrm>
            <a:off x="324000" y="333360"/>
            <a:ext cx="79930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melancholiczn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ardzo wrażliwy i niezbyt impulsyw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łatwo popada w negatywizm, czarnowidztwo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neurotyczny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go zachowania są determinowane przez wysoki poziom odczuwanego lęk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 zaniżoną samoocenę, każda klęska podkopuje jego poczucie własnej wartości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98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e jest towarzyski, nie potrafi sprawnie nawiązywać relacji z inny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raz 11" descr="ludzie72.jpg"/>
          <p:cNvPicPr/>
          <p:nvPr/>
        </p:nvPicPr>
        <p:blipFill>
          <a:blip r:embed="rId15"/>
          <a:stretch/>
        </p:blipFill>
        <p:spPr>
          <a:xfrm>
            <a:off x="5580000" y="189000"/>
            <a:ext cx="2384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ilans umiejętności i mocnych str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1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ole tekstowe 6"/>
          <p:cNvSpPr/>
          <p:nvPr/>
        </p:nvSpPr>
        <p:spPr>
          <a:xfrm>
            <a:off x="395280" y="119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mocnych i słabych stron własnej osobowości polega na dokonaniu zestawienia swoich  pozytywnych i negatywnych c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upa 14"/>
          <p:cNvGrpSpPr/>
          <p:nvPr/>
        </p:nvGrpSpPr>
        <p:grpSpPr>
          <a:xfrm>
            <a:off x="611280" y="2060640"/>
            <a:ext cx="7416720" cy="2016000"/>
            <a:chOff x="611280" y="2060640"/>
            <a:chExt cx="7416720" cy="2016000"/>
          </a:xfrm>
        </p:grpSpPr>
        <p:sp>
          <p:nvSpPr>
            <p:cNvPr id="219" name="Dowolny kształt 10"/>
            <p:cNvSpPr/>
            <p:nvPr/>
          </p:nvSpPr>
          <p:spPr>
            <a:xfrm>
              <a:off x="611280" y="2060640"/>
              <a:ext cx="7416720" cy="20160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zalet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twoje charakterystyczne cechy?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umiesz robić dobrze?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 co chwalą cię inni?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lepiej od innych?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lubisz robić?                                 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rostokąt zaokrąglony 11"/>
            <p:cNvSpPr/>
            <p:nvPr/>
          </p:nvSpPr>
          <p:spPr>
            <a:xfrm>
              <a:off x="804960" y="2254320"/>
              <a:ext cx="1482480" cy="154764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547640"/>
                <a:gd name="textAreaBottom" fmla="*/ 1504440 h 1547640"/>
              </a:gdLst>
              <a:ahLst/>
              <a:rect l="textAreaLeft" t="textAreaTop" r="textAreaRight" b="textAreaBottom"/>
              <a:pathLst>
                <a:path w="21600" h="22549">
                  <a:moveTo>
                    <a:pt x="2160" y="0"/>
                  </a:moveTo>
                  <a:arcTo wR="2160" hR="2160" stAng="16200000" swAng="-5400000"/>
                  <a:lnTo>
                    <a:pt x="0" y="20389"/>
                  </a:lnTo>
                  <a:arcTo wR="2160" hR="2160" stAng="10800000" swAng="-5400000"/>
                  <a:lnTo>
                    <a:pt x="19440" y="22549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upa 16"/>
          <p:cNvGrpSpPr/>
          <p:nvPr/>
        </p:nvGrpSpPr>
        <p:grpSpPr>
          <a:xfrm>
            <a:off x="611280" y="4189320"/>
            <a:ext cx="7416720" cy="2048040"/>
            <a:chOff x="611280" y="4189320"/>
            <a:chExt cx="7416720" cy="2048040"/>
          </a:xfrm>
        </p:grpSpPr>
        <p:sp>
          <p:nvSpPr>
            <p:cNvPr id="222" name="Dowolny kształt 12"/>
            <p:cNvSpPr/>
            <p:nvPr/>
          </p:nvSpPr>
          <p:spPr>
            <a:xfrm>
              <a:off x="611280" y="4189320"/>
              <a:ext cx="7416720" cy="204804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41680" rIns="64800" tIns="64800" bIns="64800" anchor="t">
              <a:noAutofit/>
            </a:bodyPr>
            <a:p>
              <a:pPr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 stro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e są wady twojej osobowości i charakteru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jakich umiejętności ci brakuj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o robisz niedobrz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ego powinieneś unikać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inni spostrzegają twoje słabe strony?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71360" indent="-171360">
                <a:lnSpc>
                  <a:spcPct val="90000"/>
                </a:lnSpc>
                <a:spcAft>
                  <a:spcPts val="312"/>
                </a:spcAft>
                <a:buClr>
                  <a:srgbClr val="000000"/>
                </a:buClr>
                <a:buFont typeface="Times New Roman CE"/>
                <a:buChar char="•"/>
                <a:tabLst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pl-PL" sz="17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zy twoi rówieśnicy robią coś lepiej od ciebie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Prostokąt zaokrąglony 13"/>
            <p:cNvSpPr/>
            <p:nvPr/>
          </p:nvSpPr>
          <p:spPr>
            <a:xfrm>
              <a:off x="804960" y="4402080"/>
              <a:ext cx="1482480" cy="1695600"/>
            </a:xfrm>
            <a:custGeom>
              <a:avLst/>
              <a:gdLst>
                <a:gd name="textAreaLeft" fmla="*/ 43200 w 1482480"/>
                <a:gd name="textAreaRight" fmla="*/ 1439280 w 1482480"/>
                <a:gd name="textAreaTop" fmla="*/ 43200 h 1695600"/>
                <a:gd name="textAreaBottom" fmla="*/ 1652400 h 1695600"/>
              </a:gdLst>
              <a:ahLst/>
              <a:rect l="textAreaLeft" t="textAreaTop" r="textAreaRight" b="textAreaBottom"/>
              <a:pathLst>
                <a:path w="21600" h="24704">
                  <a:moveTo>
                    <a:pt x="2160" y="0"/>
                  </a:moveTo>
                  <a:arcTo wR="2160" hR="2160" stAng="16200000" swAng="-5400000"/>
                  <a:lnTo>
                    <a:pt x="0" y="22544"/>
                  </a:lnTo>
                  <a:arcTo wR="2160" hR="2160" stAng="10800000" swAng="-5400000"/>
                  <a:lnTo>
                    <a:pt x="19440" y="24704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25560">
              <a:solidFill>
                <a:srgbClr val="ae48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2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pole tekstowe 6"/>
          <p:cNvSpPr/>
          <p:nvPr/>
        </p:nvSpPr>
        <p:spPr>
          <a:xfrm>
            <a:off x="539640" y="126828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popularnych teorii osobowości jest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Eysenck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a opisuje osobowość człowieka na wymiar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wolny kształt 10"/>
          <p:cNvSpPr/>
          <p:nvPr/>
        </p:nvSpPr>
        <p:spPr>
          <a:xfrm>
            <a:off x="2664000" y="2276640"/>
            <a:ext cx="3311280" cy="92232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zm vs uspołeczni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owolny kształt 11"/>
          <p:cNvSpPr/>
          <p:nvPr/>
        </p:nvSpPr>
        <p:spPr>
          <a:xfrm>
            <a:off x="4113360" y="3255840"/>
            <a:ext cx="414360" cy="3463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Dowolny kształt 12"/>
          <p:cNvSpPr/>
          <p:nvPr/>
        </p:nvSpPr>
        <p:spPr>
          <a:xfrm>
            <a:off x="2664000" y="3659040"/>
            <a:ext cx="3311280" cy="922320"/>
          </a:xfrm>
          <a:prstGeom prst="pie">
            <a:avLst/>
          </a:prstGeom>
          <a:solidFill>
            <a:srgbClr val="bd9b5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 vs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ntrowers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olny kształt 13"/>
          <p:cNvSpPr/>
          <p:nvPr/>
        </p:nvSpPr>
        <p:spPr>
          <a:xfrm>
            <a:off x="4113360" y="4640400"/>
            <a:ext cx="414360" cy="344520"/>
          </a:xfrm>
          <a:custGeom>
            <a:avLst/>
            <a:gdLst/>
            <a:ahLst/>
            <a:rect l="l" t="t" r="r" b="b"/>
            <a:pathLst>
              <a:path w="345767" h="414920">
                <a:moveTo>
                  <a:pt x="276613" y="1"/>
                </a:moveTo>
                <a:lnTo>
                  <a:pt x="276613" y="207461"/>
                </a:lnTo>
                <a:lnTo>
                  <a:pt x="345767" y="207461"/>
                </a:lnTo>
                <a:lnTo>
                  <a:pt x="172884" y="414919"/>
                </a:lnTo>
                <a:lnTo>
                  <a:pt x="0" y="207461"/>
                </a:lnTo>
                <a:lnTo>
                  <a:pt x="69154" y="207461"/>
                </a:lnTo>
                <a:lnTo>
                  <a:pt x="69154" y="1"/>
                </a:lnTo>
                <a:lnTo>
                  <a:pt x="276613" y="1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10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olny kształt 14"/>
          <p:cNvSpPr/>
          <p:nvPr/>
        </p:nvSpPr>
        <p:spPr>
          <a:xfrm>
            <a:off x="2664000" y="5043600"/>
            <a:ext cx="3311280" cy="92232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103320" bIns="10332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 vs zrównoważenie emocjon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6"/>
          <p:cNvSpPr/>
          <p:nvPr/>
        </p:nvSpPr>
        <p:spPr>
          <a:xfrm>
            <a:off x="2054520" y="242100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17"/>
          <p:cNvSpPr/>
          <p:nvPr/>
        </p:nvSpPr>
        <p:spPr>
          <a:xfrm>
            <a:off x="2054520" y="378936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ole tekstowe 18"/>
          <p:cNvSpPr/>
          <p:nvPr/>
        </p:nvSpPr>
        <p:spPr>
          <a:xfrm>
            <a:off x="2054520" y="5157720"/>
            <a:ext cx="4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8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Dowolny kształt 11"/>
          <p:cNvSpPr/>
          <p:nvPr/>
        </p:nvSpPr>
        <p:spPr>
          <a:xfrm>
            <a:off x="539640" y="404640"/>
            <a:ext cx="2422800" cy="52563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sych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gre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połe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łod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bawiony empat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gocentr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mpuls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osob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gruboskór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wórc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owolny kształt 12"/>
          <p:cNvSpPr/>
          <p:nvPr/>
        </p:nvSpPr>
        <p:spPr>
          <a:xfrm>
            <a:off x="3144960" y="404640"/>
            <a:ext cx="2422440" cy="5256360"/>
          </a:xfrm>
          <a:prstGeom prst="pie">
            <a:avLst/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kstrawers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warzy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beztro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ży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ominują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wybucho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sertyw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szukujący dozna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śmia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owolny kształt 13"/>
          <p:cNvSpPr/>
          <p:nvPr/>
        </p:nvSpPr>
        <p:spPr>
          <a:xfrm>
            <a:off x="5748480" y="404640"/>
            <a:ext cx="2422440" cy="52563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9680" rIns="139680" tIns="1051200" bIns="1051200" anchor="t">
            <a:noAutofit/>
          </a:bodyPr>
          <a:p>
            <a:pPr>
              <a:lnSpc>
                <a:spcPct val="90000"/>
              </a:lnSpc>
              <a:spcAft>
                <a:spcPts val="964"/>
              </a:spcAft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Neurotyczn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lęk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niską samooce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depres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rra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 poczuciem w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markot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pię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emocj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Times New Roman CE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łochli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ole tekstowe 8"/>
          <p:cNvSpPr/>
          <p:nvPr/>
        </p:nvSpPr>
        <p:spPr>
          <a:xfrm>
            <a:off x="1692360" y="6093000"/>
            <a:ext cx="6767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 Strelau, D. Doliński (red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)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. Podręcznik akademicki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t. 1, Gdańskie Wydawnictwo Psychologiczne, Gdańsk 2008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771640" y="4668840"/>
            <a:ext cx="3441960" cy="2189160"/>
          </a:xfrm>
          <a:prstGeom prst="rect">
            <a:avLst/>
          </a:prstGeom>
          <a:ln w="0">
            <a:noFill/>
          </a:ln>
        </p:spPr>
      </p:pic>
      <p:grpSp>
        <p:nvGrpSpPr>
          <p:cNvPr id="24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ole tekstowe 7"/>
          <p:cNvSpPr/>
          <p:nvPr/>
        </p:nvSpPr>
        <p:spPr>
          <a:xfrm>
            <a:off x="395280" y="40464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czn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hwiejność emocjonalna, łączy się z dużymi napięciami emocjonalnymi, które w zachowaniu mogą objawiać się np. zmiennością nastrojów, nadwrażliwością, skłonnością do popadania w depresję, obniżonym poczuciem własnej wartoś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ole tekstowe 8"/>
          <p:cNvSpPr/>
          <p:nvPr/>
        </p:nvSpPr>
        <p:spPr>
          <a:xfrm>
            <a:off x="395280" y="1773360"/>
            <a:ext cx="78487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skłonność do kierowania uwagi na świat zewnętrzny, duża aktywność skierowana na zewnątrz, łatwość wyrażania swoich myśli lub uczuć oraz brak zahamowań w nawiązywaniu kontaktów z ludźm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a przeciwległym biegunie znajduje się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sja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którą cechuje: brak zainteresowania światem zewnętrznym i praktyczną działalnością, skupianie się na własnych przeżyciach wewnętrznych, powściągliwość w wyrażaniu uczuć  i niechęć do nawiązywania kontaktów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ole tekstowe 10"/>
          <p:cNvSpPr/>
          <p:nvPr/>
        </p:nvSpPr>
        <p:spPr>
          <a:xfrm>
            <a:off x="395280" y="4005360"/>
            <a:ext cx="7848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tyzm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– cecha ta pozwala na ocenę stopnia uspołecznienia oraz respektowania obowiązujących norm, przepisów prawa i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ło służące do rozpoznania swoich cech i właściwości psychicznych oparte na koncepcji Eysenc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Picture 2" descr="Temperament_eyesenck"/>
          <p:cNvPicPr/>
          <p:nvPr/>
        </p:nvPicPr>
        <p:blipFill>
          <a:blip r:embed="rId2"/>
          <a:stretch/>
        </p:blipFill>
        <p:spPr>
          <a:xfrm>
            <a:off x="1547640" y="1268280"/>
            <a:ext cx="5356440" cy="4897440"/>
          </a:xfrm>
          <a:prstGeom prst="rect">
            <a:avLst/>
          </a:prstGeom>
          <a:ln w="0">
            <a:noFill/>
          </a:ln>
        </p:spPr>
      </p:pic>
      <p:sp>
        <p:nvSpPr>
          <p:cNvPr id="256" name="pole tekstowe 7"/>
          <p:cNvSpPr/>
          <p:nvPr/>
        </p:nvSpPr>
        <p:spPr>
          <a:xfrm>
            <a:off x="1116000" y="62373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K. Kmiecik-Baran (red.)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burzenia zachowania dzieci i młodzieży szkolnej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Verlag Daschofer, Warszawa 200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ole tekstowe 6"/>
          <p:cNvSpPr/>
          <p:nvPr/>
        </p:nvSpPr>
        <p:spPr>
          <a:xfrm>
            <a:off x="324000" y="112536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dną z najbardziej współczesnych i popularnych koncepcji opisujących osobowość jest Model IPK, stworzony na podstawie pięcioczynnikowego modelu osobowości, tzw. Wielkiej Piątki P. Costy i J. McC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1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83080" cy="3643200"/>
          </a:xfrm>
          <a:prstGeom prst="rect">
            <a:avLst/>
          </a:prstGeom>
          <a:ln w="0">
            <a:noFill/>
          </a:ln>
        </p:spPr>
      </p:pic>
      <p:sp>
        <p:nvSpPr>
          <p:cNvPr id="264" name="pole tekstowe 10"/>
          <p:cNvSpPr/>
          <p:nvPr/>
        </p:nvSpPr>
        <p:spPr>
          <a:xfrm>
            <a:off x="3501000" y="42210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11"/>
          <p:cNvSpPr/>
          <p:nvPr/>
        </p:nvSpPr>
        <p:spPr>
          <a:xfrm>
            <a:off x="3640680" y="2276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eurotyz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ole tekstowe 12"/>
          <p:cNvSpPr/>
          <p:nvPr/>
        </p:nvSpPr>
        <p:spPr>
          <a:xfrm>
            <a:off x="547560" y="335772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s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ole tekstowe 13"/>
          <p:cNvSpPr/>
          <p:nvPr/>
        </p:nvSpPr>
        <p:spPr>
          <a:xfrm>
            <a:off x="1483920" y="6237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umien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14"/>
          <p:cNvSpPr/>
          <p:nvPr/>
        </p:nvSpPr>
        <p:spPr>
          <a:xfrm>
            <a:off x="6091200" y="61657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twart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ole tekstowe 16"/>
          <p:cNvSpPr/>
          <p:nvPr/>
        </p:nvSpPr>
        <p:spPr>
          <a:xfrm>
            <a:off x="6877800" y="3357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ugod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ole tekstowe 17"/>
          <p:cNvSpPr/>
          <p:nvPr/>
        </p:nvSpPr>
        <p:spPr>
          <a:xfrm>
            <a:off x="3213360" y="6534000"/>
            <a:ext cx="239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opracowanie włas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2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9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ole tekstowe 18"/>
          <p:cNvSpPr/>
          <p:nvPr/>
        </p:nvSpPr>
        <p:spPr>
          <a:xfrm>
            <a:off x="324000" y="4046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Rozpoznawanie własnych cech i umiejętności to niezbędna czynność przy planowaniu swojej edukacji oraz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ole tekstowe 19"/>
          <p:cNvSpPr/>
          <p:nvPr/>
        </p:nvSpPr>
        <p:spPr>
          <a:xfrm>
            <a:off x="1557000" y="1844640"/>
            <a:ext cx="5139360" cy="36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zwala odpowiedzieć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e są twoje charakterystyczne ce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akich umiejętności ci braku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umiesz robić 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niedobrz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 co chwalą cię inn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ego powinieneś unika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robisz lepiej od inny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inni spostrzegają twoje słabe stron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lubisz robić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zy twoi rówieśnicy robią coś lepiej od cieb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2"/>
          <a:stretch/>
        </p:blipFill>
        <p:spPr>
          <a:xfrm>
            <a:off x="6084720" y="2637000"/>
            <a:ext cx="142740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7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pole tekstowe 6"/>
          <p:cNvSpPr/>
          <p:nvPr/>
        </p:nvSpPr>
        <p:spPr>
          <a:xfrm>
            <a:off x="395280" y="33336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Wielkiej Piątki zakłada istnienie pięciu głównych czynników osobowościow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olny kształt 10"/>
          <p:cNvSpPr/>
          <p:nvPr/>
        </p:nvSpPr>
        <p:spPr>
          <a:xfrm>
            <a:off x="382680" y="1397160"/>
            <a:ext cx="6219720" cy="8445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10700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1. Neurotyzm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równoważenie emocjonalne lub jego brak, podatność na stres psychologiczny i doświadczanie negatywnych emocji ,tj. gniew, poczucie winy, str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olny kształt 11"/>
          <p:cNvSpPr/>
          <p:nvPr/>
        </p:nvSpPr>
        <p:spPr>
          <a:xfrm>
            <a:off x="992160" y="2359080"/>
            <a:ext cx="5877000" cy="84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2. Ekstrawersja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oziom aktywności jednostki, liczba i intensywność jej relacji z innymi, skłonność do zabawy i odczuwanie pozytywnych emocj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owolny kształt 12"/>
          <p:cNvSpPr/>
          <p:nvPr/>
        </p:nvSpPr>
        <p:spPr>
          <a:xfrm>
            <a:off x="1430280" y="3322800"/>
            <a:ext cx="5878440" cy="844560"/>
          </a:xfrm>
          <a:prstGeom prst="pie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3. Otwartość – 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topień, w jakim jednostka jest skłonna do poszukiwania nowych doświadczeń, czy jest otwarta na to, co niezn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owolny kształt 13"/>
          <p:cNvSpPr/>
          <p:nvPr/>
        </p:nvSpPr>
        <p:spPr>
          <a:xfrm>
            <a:off x="1870200" y="4284720"/>
            <a:ext cx="5876640" cy="846000"/>
          </a:xfrm>
          <a:prstGeom prst="pie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4. Ugodowość – j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kość relacji z ludźmi, pozytywne lub negatywne nastawienie do inny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olny kształt 14"/>
          <p:cNvSpPr/>
          <p:nvPr/>
        </p:nvSpPr>
        <p:spPr>
          <a:xfrm>
            <a:off x="2308320" y="5248440"/>
            <a:ext cx="5878440" cy="844560"/>
          </a:xfrm>
          <a:prstGeom prst="pie">
            <a:avLst/>
          </a:prstGeom>
          <a:solidFill>
            <a:srgbClr val="98480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9640" rIns="1077840" tIns="89640" bIns="89640" anchor="ctr">
            <a:noAutofit/>
          </a:bodyPr>
          <a:p>
            <a:pPr algn="just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5. Sumienność – s</a:t>
            </a:r>
            <a:r>
              <a:rPr b="0" lang="pl-PL" sz="17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opień zorganizowania, wytrwałość w dążeniu do celu oraz  motywacja do prac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olny kształt 16"/>
          <p:cNvSpPr/>
          <p:nvPr/>
        </p:nvSpPr>
        <p:spPr>
          <a:xfrm>
            <a:off x="5881680" y="2014560"/>
            <a:ext cx="54936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e8d0d0">
              <a:alpha val="90000"/>
            </a:srgbClr>
          </a:solidFill>
          <a:ln w="25560">
            <a:solidFill>
              <a:srgbClr val="e8d0d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olny kształt 17"/>
          <p:cNvSpPr/>
          <p:nvPr/>
        </p:nvSpPr>
        <p:spPr>
          <a:xfrm>
            <a:off x="6319800" y="2976480"/>
            <a:ext cx="54936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ee7d1">
              <a:alpha val="90000"/>
            </a:srgbClr>
          </a:solidFill>
          <a:ln w="25560">
            <a:solidFill>
              <a:srgbClr val="dee7d1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olny kształt 18"/>
          <p:cNvSpPr/>
          <p:nvPr/>
        </p:nvSpPr>
        <p:spPr>
          <a:xfrm>
            <a:off x="6759720" y="3925800"/>
            <a:ext cx="549000" cy="54936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8d3e0">
              <a:alpha val="90000"/>
            </a:srgbClr>
          </a:solidFill>
          <a:ln w="25560">
            <a:solidFill>
              <a:srgbClr val="d8d3e0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olny kształt 19"/>
          <p:cNvSpPr/>
          <p:nvPr/>
        </p:nvSpPr>
        <p:spPr>
          <a:xfrm>
            <a:off x="7197840" y="4897440"/>
            <a:ext cx="549000" cy="550800"/>
          </a:xfrm>
          <a:custGeom>
            <a:avLst/>
            <a:gdLst/>
            <a:ahLst/>
            <a:rect l="l" t="t" r="r" b="b"/>
            <a:pathLst>
              <a:path w="549466" h="549466">
                <a:moveTo>
                  <a:pt x="0" y="302206"/>
                </a:moveTo>
                <a:lnTo>
                  <a:pt x="123630" y="302206"/>
                </a:lnTo>
                <a:lnTo>
                  <a:pt x="123630" y="0"/>
                </a:lnTo>
                <a:lnTo>
                  <a:pt x="425836" y="0"/>
                </a:lnTo>
                <a:lnTo>
                  <a:pt x="425836" y="302206"/>
                </a:lnTo>
                <a:lnTo>
                  <a:pt x="549466" y="302206"/>
                </a:lnTo>
                <a:lnTo>
                  <a:pt x="274733" y="549466"/>
                </a:lnTo>
                <a:lnTo>
                  <a:pt x="0" y="302206"/>
                </a:lnTo>
                <a:close/>
              </a:path>
            </a:pathLst>
          </a:custGeom>
          <a:solidFill>
            <a:srgbClr val="d0e3ea">
              <a:alpha val="90000"/>
            </a:srgbClr>
          </a:solidFill>
          <a:ln w="25560">
            <a:solidFill>
              <a:srgbClr val="d0e3ea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55160" rIns="155160" tIns="31680" bIns="167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5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ole tekstowe 7"/>
          <p:cNvSpPr/>
          <p:nvPr/>
        </p:nvSpPr>
        <p:spPr>
          <a:xfrm>
            <a:off x="395280" y="476280"/>
            <a:ext cx="374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kstra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przyjacielskie, rozmowne, skłonne do zabawy i poszukiwania stymulacji oraz wykazują optymizm życiowy i pogodny nastrój, wykazują tendencję do dominowania w kontaktach społe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ole tekstowe 8"/>
          <p:cNvSpPr/>
          <p:nvPr/>
        </p:nvSpPr>
        <p:spPr>
          <a:xfrm>
            <a:off x="4500720" y="47628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ntrowertywne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rezerwę w kontaktach społecznych, brak optymizmu, który nie musi oznaczać pesymizmu czy braku szczęścia. Ponadto preferują przebywanie w samotności, są nieśmiałe, co nie oznacza lęku społeczn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2295360" cy="2705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5003640" y="3429000"/>
            <a:ext cx="29149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ole tekstowe 7"/>
          <p:cNvSpPr/>
          <p:nvPr/>
        </p:nvSpPr>
        <p:spPr>
          <a:xfrm>
            <a:off x="539640" y="54936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yso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mają tendencję do silnego reagowania emocjonalnego nawet w sytuacjach niezbyt skłaniających do takich reakcji. Często wybuchają płaczem lub złością. Nie potrafią przyjmować informacji zwrotnej na swój tema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8"/>
          <p:cNvSpPr/>
          <p:nvPr/>
        </p:nvSpPr>
        <p:spPr>
          <a:xfrm>
            <a:off x="4643280" y="620640"/>
            <a:ext cx="3600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z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niską neurotycznością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mocjonalnie stabilne, spokojne, zrelaksowane i zdolne do zmagania się ze stresem, bez doświadczania obaw, napięć i rozdrażnienia. Znacznie skuteczniej kontrolują własne emocj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755640" y="3429000"/>
            <a:ext cx="284940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3"/>
          <a:stretch/>
        </p:blipFill>
        <p:spPr>
          <a:xfrm>
            <a:off x="4965840" y="3735360"/>
            <a:ext cx="3278160" cy="21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ole tekstowe 7"/>
          <p:cNvSpPr/>
          <p:nvPr/>
        </p:nvSpPr>
        <p:spPr>
          <a:xfrm>
            <a:off x="395280" y="83664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ugodow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sympatyczne wobec innych i skłonne do udzielania im pomocy. Są prostolinijne, prostoduszne, szczere, altruistyczne, potulne i łagodne oraz skrom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uczuciowe w stosunku do ludzi. Wysoki poziom ugodowości często jest związany z tendencją do pomag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8"/>
          <p:cNvSpPr/>
          <p:nvPr/>
        </p:nvSpPr>
        <p:spPr>
          <a:xfrm>
            <a:off x="3276720" y="3500280"/>
            <a:ext cx="5040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o ugodowe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egocentryczne, sceptyczne w opiniach na temat intencji innych ludzi oraz przejawiają raczej nastawienie rywalizacyjne niż kooperatywne, są agresyw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oschłe w kontaktach z innymi ludźmi. Mają nieprzyjemny, a w skrajnych przypadkach wrogi stosunek do ludz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7020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724120" cy="17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06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pole tekstowe 7"/>
          <p:cNvSpPr/>
          <p:nvPr/>
        </p:nvSpPr>
        <p:spPr>
          <a:xfrm>
            <a:off x="3564000" y="549360"/>
            <a:ext cx="46800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sumienn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wykazują silną wolę, są zmotywowane do działania oraz wytrwałe w realizowaniu swoich celów. Są postrzegane jako skrupulatne, punktualne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zetelne w pracy. Mogą także przejawiać perfekcjonizm i pracoholizm, a także skłonność do utrzymywania porządk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ole tekstowe 8"/>
          <p:cNvSpPr/>
          <p:nvPr/>
        </p:nvSpPr>
        <p:spPr>
          <a:xfrm>
            <a:off x="395280" y="3068640"/>
            <a:ext cx="47530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sumienności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dznaczają się mniejszym nasileniem cech poprzednio wymienionych. Wykazują raczej małą skrupulatność w wypełnianiu obowiązków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małą motywację osiągnięć społecznych, hedonistyczne nastawienie do życia, brak jasno sprecyzowanych celów życiowych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rozleniwienie oraz impulsywność przy podejmowaniu decyzji i spontaniczność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działaniu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3002040" cy="1906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539640" y="692280"/>
            <a:ext cx="2933640" cy="18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1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ole tekstowe 7"/>
          <p:cNvSpPr/>
          <p:nvPr/>
        </p:nvSpPr>
        <p:spPr>
          <a:xfrm>
            <a:off x="395280" y="549360"/>
            <a:ext cx="50403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uż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ciekawe zjawisk zarówno świata zewnętrznego, jak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wewnętrznego oraz mają życie bogatsze pod względem liczby doświadczeń i przeżyć. Są kreatywne, mają żywą i twórczą wyobraźnię, wykazują intelektualną ciekawość i dużą wrażliwość estetyczną. Są także niekonwencjonalne, skłonne do kwestionowania autorytetów, niezależne w sąd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ole tekstowe 8"/>
          <p:cNvSpPr/>
          <p:nvPr/>
        </p:nvSpPr>
        <p:spPr>
          <a:xfrm>
            <a:off x="3492360" y="3789360"/>
            <a:ext cx="47516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y o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ałej otwartości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są natomiast konwencjonalne w zachowaniu i konserwatywne w poglądach. Cenią sobie tradycyjne wartości, mają pragmatyczne zainteresowania i preferują uznane społecznie sposoby działan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5508720" y="981000"/>
            <a:ext cx="2789280" cy="1770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295272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cepcja Holla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ole tekstowe 6"/>
          <p:cNvSpPr/>
          <p:nvPr/>
        </p:nvSpPr>
        <p:spPr>
          <a:xfrm>
            <a:off x="468360" y="1341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del sześciu typów osobowości stworzony przez Hollanda pozwala dokonać rozpoznania cech i umiejętności w zakresie planowania swojej przyszłej kariery zawod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Diagram 7" descr=""/>
          <p:cNvPicPr/>
          <p:nvPr/>
        </p:nvPicPr>
        <p:blipFill>
          <a:blip r:embed="rId2"/>
          <a:stretch/>
        </p:blipFill>
        <p:spPr>
          <a:xfrm>
            <a:off x="523800" y="2620800"/>
            <a:ext cx="4638600" cy="3286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716360" y="3573360"/>
            <a:ext cx="35704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2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ole tekstowe 7"/>
          <p:cNvSpPr/>
          <p:nvPr/>
        </p:nvSpPr>
        <p:spPr>
          <a:xfrm>
            <a:off x="468360" y="476280"/>
            <a:ext cx="41749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badaw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dąży do zrozumienia otaczającego świata, poszukując prawideł nim rządzących. Ma zdolności matematyczne i naukowe. Lubi badać zjawiska fizyczne, biologiczne, kulturowe. Nauka stanowi dla niego szczególn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10"/>
          <p:cNvSpPr/>
          <p:nvPr/>
        </p:nvSpPr>
        <p:spPr>
          <a:xfrm>
            <a:off x="3924360" y="3213000"/>
            <a:ext cx="4248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arty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zachowania kreatywne i umożliwiające wyrażanie samego siebie. Cechuje go szczególna wyobraźnia. Ma zdolności artystyczne,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j. pisarstwo, malowanie, szkicowanie, aktorstwo, taniec, muzyka. W celu wytwarzania dzieł sztuki posługuje się materiałem fizycznym, słownym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ludzkim. Estetyka jest dla niego wartością samą w sob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539640" y="3573360"/>
            <a:ext cx="3295800" cy="2087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4788000" y="476280"/>
            <a:ext cx="3365280" cy="213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34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ole tekstowe 7"/>
          <p:cNvSpPr/>
          <p:nvPr/>
        </p:nvSpPr>
        <p:spPr>
          <a:xfrm>
            <a:off x="3492360" y="549360"/>
            <a:ext cx="47516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społe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agnie nade wszystko pomagać ludziom. Chce informować, szkolić, leczyć innych, opiekować się ludźmi, wspierać ich. Takie osoby charakteryzują zdolności interpersonalne, pedagogiczne i postawa prospołeczna. Etyka i moralność stanowią dla nich wielką wartoś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ole tekstowe 8"/>
          <p:cNvSpPr/>
          <p:nvPr/>
        </p:nvSpPr>
        <p:spPr>
          <a:xfrm>
            <a:off x="395280" y="3068640"/>
            <a:ext cx="468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przedsiębiorcz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lubi pracę z ludźmi, ale ukierunkowaną niejednokrotnie na korzyści materialne. Nastawiony na osiąganie korzyści ekonomicznych, ale także przewodzenie, wpływanie na innych. Charakteryzują go kompetencje przywódcze, sprawdza się w kierowaniu zespołami. Zna się na organizacji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i zarządzaniu. Pełen ambicji, dominujący, dopuszczający manipulowanie innymi, jeżeli miałoby to zaważyć na osiągnięciu celó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3005280" cy="190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3"/>
          <a:stretch/>
        </p:blipFill>
        <p:spPr>
          <a:xfrm>
            <a:off x="5148360" y="3500280"/>
            <a:ext cx="3149640" cy="20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pole tekstowe 7"/>
          <p:cNvSpPr/>
          <p:nvPr/>
        </p:nvSpPr>
        <p:spPr>
          <a:xfrm>
            <a:off x="395280" y="620640"/>
            <a:ext cx="4753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konwencjonal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referuje pracę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danymi, ich porządkowaniem i strukturą. Jego kompetencje można określić jako „biurowe”. Jest dobrze zorganizowany, wyróżniają go zdolności urzędnicze, arytmetyczne. Jest rozważny, konwencjonalny w swoich działaniach. Wszelka ekstrawagancja jest mu ob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ole tekstowe 8"/>
          <p:cNvSpPr/>
          <p:nvPr/>
        </p:nvSpPr>
        <p:spPr>
          <a:xfrm>
            <a:off x="3780000" y="3500280"/>
            <a:ext cx="44640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Typ realistyczny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reprezentowany jest przez osoby, które lubią pracować z narzędziami, maszynami, roślinami i zwierzętami. Posiada kompetencje manualne, mechaniczne, rolnicze, techniczne. Charakteryzuje go sprawność fizyczn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5219640" y="765000"/>
            <a:ext cx="3024360" cy="1919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3"/>
          <a:stretch/>
        </p:blipFill>
        <p:spPr>
          <a:xfrm>
            <a:off x="395280" y="3500280"/>
            <a:ext cx="3294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ole tekstowe 10"/>
          <p:cNvSpPr/>
          <p:nvPr/>
        </p:nvSpPr>
        <p:spPr>
          <a:xfrm>
            <a:off x="498960" y="3213000"/>
            <a:ext cx="68601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kładają się na nieg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starczane nam przez innych ludzi informacje na nasz temat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cena wyników naszych własnych działań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efekty dokonywanych przez nas porównań siebie z innymi ludźm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upa 16"/>
          <p:cNvGrpSpPr/>
          <p:nvPr/>
        </p:nvGrpSpPr>
        <p:grpSpPr>
          <a:xfrm>
            <a:off x="468360" y="5229360"/>
            <a:ext cx="7632720" cy="720720"/>
            <a:chOff x="468360" y="5229360"/>
            <a:chExt cx="7632720" cy="720720"/>
          </a:xfrm>
        </p:grpSpPr>
        <p:sp>
          <p:nvSpPr>
            <p:cNvPr id="105" name="Prostokąt zaokrąglony 12"/>
            <p:cNvSpPr/>
            <p:nvPr/>
          </p:nvSpPr>
          <p:spPr>
            <a:xfrm>
              <a:off x="468360" y="5229360"/>
              <a:ext cx="7632720" cy="72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ole tekstowe 11"/>
            <p:cNvSpPr/>
            <p:nvPr/>
          </p:nvSpPr>
          <p:spPr>
            <a:xfrm>
              <a:off x="468360" y="5373360"/>
              <a:ext cx="76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Dokonanie samooceny wzbogaca wiedzę o nas samych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a 14"/>
          <p:cNvGrpSpPr/>
          <p:nvPr/>
        </p:nvGrpSpPr>
        <p:grpSpPr>
          <a:xfrm>
            <a:off x="395280" y="404640"/>
            <a:ext cx="7875720" cy="2789640"/>
            <a:chOff x="395280" y="404640"/>
            <a:chExt cx="7875720" cy="2789640"/>
          </a:xfrm>
        </p:grpSpPr>
        <p:sp>
          <p:nvSpPr>
            <p:cNvPr id="108" name="pole tekstowe 7"/>
            <p:cNvSpPr/>
            <p:nvPr/>
          </p:nvSpPr>
          <p:spPr>
            <a:xfrm>
              <a:off x="395280" y="404640"/>
              <a:ext cx="518436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9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To, co myślimy o sobie, czyli nasz własny obraz samego siebie, ma ogromny wpływ na nasze życie, na to, jak się zachowujemy, jaki mamy stosunek do siebie i do innych ludzi.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" descr=""/>
            <p:cNvPicPr/>
            <p:nvPr/>
          </p:nvPicPr>
          <p:blipFill>
            <a:blip r:embed="rId5"/>
            <a:stretch/>
          </p:blipFill>
          <p:spPr>
            <a:xfrm>
              <a:off x="5651640" y="548640"/>
              <a:ext cx="261936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pole tekstowe 13"/>
            <p:cNvSpPr/>
            <p:nvPr/>
          </p:nvSpPr>
          <p:spPr>
            <a:xfrm>
              <a:off x="395280" y="2277360"/>
              <a:ext cx="784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braz samego siebie kształtuje się od najmłodszych lat życia. Jest on zawsze bardziej lub mniej subiektywn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2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ole tekstowe 7"/>
          <p:cNvSpPr/>
          <p:nvPr/>
        </p:nvSpPr>
        <p:spPr>
          <a:xfrm>
            <a:off x="324000" y="189000"/>
            <a:ext cx="79200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Główne czynniki psychologiczne tworzące psychiczny obraz człowiek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a 17"/>
          <p:cNvGrpSpPr/>
          <p:nvPr/>
        </p:nvGrpSpPr>
        <p:grpSpPr>
          <a:xfrm>
            <a:off x="539640" y="1413000"/>
            <a:ext cx="7345440" cy="1576440"/>
            <a:chOff x="539640" y="1413000"/>
            <a:chExt cx="7345440" cy="1576440"/>
          </a:xfrm>
        </p:grpSpPr>
        <p:sp>
          <p:nvSpPr>
            <p:cNvPr id="116" name="Dowolny kształt 11"/>
            <p:cNvSpPr/>
            <p:nvPr/>
          </p:nvSpPr>
          <p:spPr>
            <a:xfrm>
              <a:off x="539640" y="141300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wrodzon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temperament i inteligen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Prostokąt zaokrąglony 12"/>
            <p:cNvSpPr/>
            <p:nvPr/>
          </p:nvSpPr>
          <p:spPr>
            <a:xfrm>
              <a:off x="696600" y="156996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upa 18"/>
          <p:cNvGrpSpPr/>
          <p:nvPr/>
        </p:nvGrpSpPr>
        <p:grpSpPr>
          <a:xfrm>
            <a:off x="539640" y="3147840"/>
            <a:ext cx="7345440" cy="1576440"/>
            <a:chOff x="539640" y="3147840"/>
            <a:chExt cx="7345440" cy="1576440"/>
          </a:xfrm>
        </p:grpSpPr>
        <p:sp>
          <p:nvSpPr>
            <p:cNvPr id="119" name="Dowolny kształt 13"/>
            <p:cNvSpPr/>
            <p:nvPr/>
          </p:nvSpPr>
          <p:spPr>
            <a:xfrm>
              <a:off x="539640" y="3147840"/>
              <a:ext cx="7345440" cy="157644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710360" rIns="83880" tIns="83880" bIns="83880" anchor="ctr">
              <a:noAutofit/>
            </a:bodyPr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1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cechy nabyte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: charakter, osobowość, system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</a:t>
              </a:r>
              <a:r>
                <a:rPr b="0" lang="pl-PL" sz="22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artości i motywacj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rostokąt zaokrąglony 14"/>
            <p:cNvSpPr/>
            <p:nvPr/>
          </p:nvSpPr>
          <p:spPr>
            <a:xfrm>
              <a:off x="696600" y="3304800"/>
              <a:ext cx="1931760" cy="1262160"/>
            </a:xfrm>
            <a:prstGeom prst="roundRect">
              <a:avLst>
                <a:gd name="adj" fmla="val 10000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ole tekstowe 16"/>
          <p:cNvSpPr/>
          <p:nvPr/>
        </p:nvSpPr>
        <p:spPr>
          <a:xfrm>
            <a:off x="324000" y="501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 ważnych czynników psychiki wyznaczających nasze zachowania należą również: percepcja, indywidualne zdolności i potrz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Dowolny kształt 10"/>
          <p:cNvSpPr/>
          <p:nvPr/>
        </p:nvSpPr>
        <p:spPr>
          <a:xfrm>
            <a:off x="3276720" y="2349360"/>
            <a:ext cx="2016000" cy="165600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zynniki psychol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olny kształt 11"/>
          <p:cNvSpPr/>
          <p:nvPr/>
        </p:nvSpPr>
        <p:spPr>
          <a:xfrm rot="16200000">
            <a:off x="4022640" y="2104560"/>
            <a:ext cx="40932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olny kształt 12"/>
          <p:cNvSpPr/>
          <p:nvPr/>
        </p:nvSpPr>
        <p:spPr>
          <a:xfrm>
            <a:off x="3348000" y="189000"/>
            <a:ext cx="1800360" cy="1731960"/>
          </a:xfrm>
          <a:prstGeom prst="pie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zdolności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inteligen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owolny kształt 13"/>
          <p:cNvSpPr/>
          <p:nvPr/>
        </p:nvSpPr>
        <p:spPr>
          <a:xfrm rot="19800000">
            <a:off x="5146560" y="247608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olny kształt 14"/>
          <p:cNvSpPr/>
          <p:nvPr/>
        </p:nvSpPr>
        <p:spPr>
          <a:xfrm>
            <a:off x="5435640" y="1125360"/>
            <a:ext cx="1816200" cy="1603440"/>
          </a:xfrm>
          <a:prstGeom prst="pie">
            <a:avLst/>
          </a:prstGeom>
          <a:solidFill>
            <a:srgbClr val="bf6f4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system potrzeb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i motyw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olny kształt 16"/>
          <p:cNvSpPr/>
          <p:nvPr/>
        </p:nvSpPr>
        <p:spPr>
          <a:xfrm rot="1800000">
            <a:off x="5200560" y="3528720"/>
            <a:ext cx="40824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olny kształt 17"/>
          <p:cNvSpPr/>
          <p:nvPr/>
        </p:nvSpPr>
        <p:spPr>
          <a:xfrm>
            <a:off x="5508720" y="3213000"/>
            <a:ext cx="1743120" cy="1563840"/>
          </a:xfrm>
          <a:prstGeom prst="pie">
            <a:avLst/>
          </a:prstGeom>
          <a:solidFill>
            <a:srgbClr val="be8d5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chara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olny kształt 18"/>
          <p:cNvSpPr/>
          <p:nvPr/>
        </p:nvSpPr>
        <p:spPr>
          <a:xfrm rot="5400000">
            <a:off x="4167720" y="419328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0" y="15653"/>
                </a:moveTo>
                <a:lnTo>
                  <a:pt x="408142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olny kształt 19"/>
          <p:cNvSpPr/>
          <p:nvPr/>
        </p:nvSpPr>
        <p:spPr>
          <a:xfrm>
            <a:off x="3564000" y="4437000"/>
            <a:ext cx="1612800" cy="1581120"/>
          </a:xfrm>
          <a:prstGeom prst="pie">
            <a:avLst/>
          </a:prstGeom>
          <a:solidFill>
            <a:srgbClr val="bda95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osobow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olny kształt 20"/>
          <p:cNvSpPr/>
          <p:nvPr/>
        </p:nvSpPr>
        <p:spPr>
          <a:xfrm rot="19800000">
            <a:off x="2968560" y="360000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owolny kształt 21"/>
          <p:cNvSpPr/>
          <p:nvPr/>
        </p:nvSpPr>
        <p:spPr>
          <a:xfrm>
            <a:off x="1332000" y="3284640"/>
            <a:ext cx="1815840" cy="1660320"/>
          </a:xfrm>
          <a:prstGeom prst="pie">
            <a:avLst/>
          </a:prstGeom>
          <a:solidFill>
            <a:srgbClr val="b5bc5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temper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olny kształt 22"/>
          <p:cNvSpPr/>
          <p:nvPr/>
        </p:nvSpPr>
        <p:spPr>
          <a:xfrm rot="1800000">
            <a:off x="3029040" y="2476440"/>
            <a:ext cx="407880" cy="31680"/>
          </a:xfrm>
          <a:custGeom>
            <a:avLst/>
            <a:gdLst/>
            <a:ahLst/>
            <a:rect l="l" t="t" r="r" b="b"/>
            <a:pathLst>
              <a:path w="408142" h="31306">
                <a:moveTo>
                  <a:pt x="408142" y="15653"/>
                </a:moveTo>
                <a:lnTo>
                  <a:pt x="0" y="15653"/>
                </a:lnTo>
              </a:path>
            </a:pathLst>
          </a:custGeom>
          <a:noFill/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6280" rIns="20628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olny kształt 23"/>
          <p:cNvSpPr/>
          <p:nvPr/>
        </p:nvSpPr>
        <p:spPr>
          <a:xfrm>
            <a:off x="1476360" y="1268280"/>
            <a:ext cx="1671480" cy="1656000"/>
          </a:xfrm>
          <a:prstGeom prst="pie">
            <a:avLst/>
          </a:prstGeom>
          <a:solidFill>
            <a:srgbClr val="9bbb5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9520" rIns="209520" tIns="209520" bIns="209520" anchor="ctr">
            <a:noAutofit/>
          </a:bodyPr>
          <a:p>
            <a:pPr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percep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24"/>
          <p:cNvSpPr/>
          <p:nvPr/>
        </p:nvSpPr>
        <p:spPr>
          <a:xfrm>
            <a:off x="2762640" y="6308640"/>
            <a:ext cx="54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Źródło: J.F. Terelak, </a:t>
            </a:r>
            <a:r>
              <a:rPr b="0" i="1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sychologia menedżera</a:t>
            </a:r>
            <a:r>
              <a:rPr b="0" lang="pl-PL" sz="15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, Difin, Warszawa 1999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ole tekstowe 7"/>
          <p:cNvSpPr/>
          <p:nvPr/>
        </p:nvSpPr>
        <p:spPr>
          <a:xfrm>
            <a:off x="324000" y="333360"/>
            <a:ext cx="79200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kreślenie </a:t>
            </a:r>
            <a:r>
              <a:rPr b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(po łacinie </a:t>
            </a:r>
            <a:r>
              <a:rPr b="0" i="1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ersona)</a:t>
            </a: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pierwotnie oznaczało maskę teatralną używaną przez starożytnych aktorów dramatyczny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a 13"/>
          <p:cNvGrpSpPr/>
          <p:nvPr/>
        </p:nvGrpSpPr>
        <p:grpSpPr>
          <a:xfrm>
            <a:off x="468360" y="1916280"/>
            <a:ext cx="7559640" cy="1873080"/>
            <a:chOff x="468360" y="1916280"/>
            <a:chExt cx="7559640" cy="1873080"/>
          </a:xfrm>
        </p:grpSpPr>
        <p:sp>
          <p:nvSpPr>
            <p:cNvPr id="144" name="Prostokąt zaokrąglony 10"/>
            <p:cNvSpPr/>
            <p:nvPr/>
          </p:nvSpPr>
          <p:spPr>
            <a:xfrm>
              <a:off x="468360" y="1916280"/>
              <a:ext cx="7559640" cy="1873080"/>
            </a:xfrm>
            <a:prstGeom prst="roundRect">
              <a:avLst>
                <a:gd name="adj" fmla="val 16667"/>
              </a:avLst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ole tekstowe 8"/>
            <p:cNvSpPr/>
            <p:nvPr/>
          </p:nvSpPr>
          <p:spPr>
            <a:xfrm>
              <a:off x="612360" y="1916280"/>
              <a:ext cx="7271640" cy="183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obowość to złożony wzorzec głęboko zakorzenionych cech psychologicznych, wyrażanych w sposób automatyczny niemal w każdej sferze funkcjonowania psychologicznego i zachowań człowieka</a:t>
              </a:r>
              <a:r>
                <a:rPr b="0" lang="pl-PL" sz="19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ole tekstowe 11"/>
          <p:cNvSpPr/>
          <p:nvPr/>
        </p:nvSpPr>
        <p:spPr>
          <a:xfrm>
            <a:off x="395280" y="4076640"/>
            <a:ext cx="691344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by zrozumieć istotę czyjejś osobowości, musimy zrozumieć to, co ta osoba ma wspólnego z innymi, ale także i to, co </a:t>
            </a:r>
            <a:br>
              <a:rPr sz="1900"/>
            </a:br>
            <a:r>
              <a:rPr b="0" lang="pl-PL" sz="1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niej jest jedyne i niepowtarzaln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874800" cy="1871640"/>
          </a:xfrm>
          <a:prstGeom prst="rect">
            <a:avLst/>
          </a:prstGeom>
          <a:ln w="0">
            <a:noFill/>
          </a:ln>
        </p:spPr>
      </p:pic>
      <p:sp>
        <p:nvSpPr>
          <p:cNvPr id="148" name="pole tekstowe 12"/>
          <p:cNvSpPr/>
          <p:nvPr/>
        </p:nvSpPr>
        <p:spPr>
          <a:xfrm>
            <a:off x="991080" y="5805360"/>
            <a:ext cx="668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człowieka kształtuje się w pierwszych latach ży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upa 16"/>
          <p:cNvGrpSpPr/>
          <p:nvPr/>
        </p:nvGrpSpPr>
        <p:grpSpPr>
          <a:xfrm>
            <a:off x="471600" y="549360"/>
            <a:ext cx="3755880" cy="5688000"/>
            <a:chOff x="471600" y="549360"/>
            <a:chExt cx="3755880" cy="5688000"/>
          </a:xfrm>
        </p:grpSpPr>
        <p:sp>
          <p:nvSpPr>
            <p:cNvPr id="153" name="Dowolny kształt 10"/>
            <p:cNvSpPr/>
            <p:nvPr/>
          </p:nvSpPr>
          <p:spPr>
            <a:xfrm>
              <a:off x="471600" y="549360"/>
              <a:ext cx="37558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Na proces tworzenia się osobowości ma wpływ szereg czynników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dziedziczność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środowisko rodzinn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specyfika kulturowa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przynależność do grup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społecznej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osobiste doświadczenia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rostokąt 11"/>
            <p:cNvSpPr/>
            <p:nvPr/>
          </p:nvSpPr>
          <p:spPr>
            <a:xfrm>
              <a:off x="1401840" y="890640"/>
              <a:ext cx="1895400" cy="18939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upa 17"/>
          <p:cNvGrpSpPr/>
          <p:nvPr/>
        </p:nvGrpSpPr>
        <p:grpSpPr>
          <a:xfrm>
            <a:off x="4340160" y="549360"/>
            <a:ext cx="3757680" cy="5688000"/>
            <a:chOff x="4340160" y="549360"/>
            <a:chExt cx="3757680" cy="5688000"/>
          </a:xfrm>
        </p:grpSpPr>
        <p:sp>
          <p:nvSpPr>
            <p:cNvPr id="156" name="Dowolny kształt 12"/>
            <p:cNvSpPr/>
            <p:nvPr/>
          </p:nvSpPr>
          <p:spPr>
            <a:xfrm>
              <a:off x="4340160" y="549360"/>
              <a:ext cx="3757680" cy="5688000"/>
            </a:xfrm>
            <a:prstGeom prst="pie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200" rIns="142200" tIns="2417760" bIns="12798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Wynikiem tego wszystkiego jest jednostka, któr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jest trochę taka jak inni ludzi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niektórzy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- trochę jak ktoś inny, kto usiłuje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osiągnąć samorealizację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i integrację ze swoi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         </a:t>
              </a:r>
              <a:r>
                <a:rPr b="0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środowiski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rostokąt 13"/>
            <p:cNvSpPr/>
            <p:nvPr/>
          </p:nvSpPr>
          <p:spPr>
            <a:xfrm>
              <a:off x="5271840" y="890640"/>
              <a:ext cx="1893960" cy="1893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Strzałka w lewo i prawo 14"/>
          <p:cNvSpPr/>
          <p:nvPr/>
        </p:nvSpPr>
        <p:spPr>
          <a:xfrm>
            <a:off x="3635280" y="5300640"/>
            <a:ext cx="1290600" cy="853920"/>
          </a:xfrm>
          <a:prstGeom prst="leftRightArrow">
            <a:avLst>
              <a:gd name="adj1" fmla="val 50000"/>
              <a:gd name="adj2" fmla="val 50008"/>
            </a:avLst>
          </a:prstGeom>
          <a:solidFill>
            <a:srgbClr val="dcb3b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ole tekstowe 7"/>
          <p:cNvSpPr/>
          <p:nvPr/>
        </p:nvSpPr>
        <p:spPr>
          <a:xfrm>
            <a:off x="478440" y="62064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Osobowość może być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mocna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słaba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upa 12"/>
          <p:cNvGrpSpPr/>
          <p:nvPr/>
        </p:nvGrpSpPr>
        <p:grpSpPr>
          <a:xfrm>
            <a:off x="468360" y="1628640"/>
            <a:ext cx="7829640" cy="1923480"/>
            <a:chOff x="468360" y="1628640"/>
            <a:chExt cx="7829640" cy="1923480"/>
          </a:xfrm>
        </p:grpSpPr>
        <p:sp>
          <p:nvSpPr>
            <p:cNvPr id="164" name="pole tekstowe 8"/>
            <p:cNvSpPr/>
            <p:nvPr/>
          </p:nvSpPr>
          <p:spPr>
            <a:xfrm>
              <a:off x="468360" y="1628640"/>
              <a:ext cx="4896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mocn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możemy mówić wtedy, gdy jest ona stabilna, względnie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 trwale wiążąca struktury i procesy psychiczne człowieka, nie wyczerpuje się szybko i przejawia się siłą przebicia </a:t>
              </a:r>
              <a:br>
                <a:rPr sz="2000"/>
              </a:b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 kontaktach z innymi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2" descr=""/>
            <p:cNvPicPr/>
            <p:nvPr/>
          </p:nvPicPr>
          <p:blipFill>
            <a:blip r:embed="rId2"/>
            <a:stretch/>
          </p:blipFill>
          <p:spPr>
            <a:xfrm>
              <a:off x="5436720" y="1628640"/>
              <a:ext cx="2861280" cy="181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upa 13"/>
          <p:cNvGrpSpPr/>
          <p:nvPr/>
        </p:nvGrpSpPr>
        <p:grpSpPr>
          <a:xfrm>
            <a:off x="539640" y="4005360"/>
            <a:ext cx="7704360" cy="1550880"/>
            <a:chOff x="539640" y="4005360"/>
            <a:chExt cx="7704360" cy="1550880"/>
          </a:xfrm>
        </p:grpSpPr>
        <p:sp>
          <p:nvSpPr>
            <p:cNvPr id="167" name="pole tekstowe 10"/>
            <p:cNvSpPr/>
            <p:nvPr/>
          </p:nvSpPr>
          <p:spPr>
            <a:xfrm>
              <a:off x="3059640" y="4293000"/>
              <a:ext cx="5184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udzie o </a:t>
              </a: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słabej osobowości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ulegają impulsom, niekontrolowanym emocjom, są bardziej podatni na str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3" descr=""/>
            <p:cNvPicPr/>
            <p:nvPr/>
          </p:nvPicPr>
          <p:blipFill>
            <a:blip r:embed="rId3"/>
            <a:stretch/>
          </p:blipFill>
          <p:spPr>
            <a:xfrm>
              <a:off x="539640" y="4005360"/>
              <a:ext cx="2448000" cy="1550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ryteria dojrzałej osobowości według Alport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7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Calibri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Dowolny kształt 8"/>
          <p:cNvSpPr/>
          <p:nvPr/>
        </p:nvSpPr>
        <p:spPr>
          <a:xfrm>
            <a:off x="1547640" y="6165720"/>
            <a:ext cx="5616720" cy="3668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1281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7. Umiejętność budowania własnej filozofii życia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olny kształt 10"/>
          <p:cNvSpPr/>
          <p:nvPr/>
        </p:nvSpPr>
        <p:spPr>
          <a:xfrm>
            <a:off x="468360" y="537372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6. Otwartość na opinie innych ludz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la zdrowej osobowości jest to bogate źródło pogłębiające rozumienie samego siebie i własne relacji z innymi ludźm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olny kształt 11"/>
          <p:cNvSpPr/>
          <p:nvPr/>
        </p:nvSpPr>
        <p:spPr>
          <a:xfrm>
            <a:off x="468360" y="4581360"/>
            <a:ext cx="7775640" cy="785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5. Potrzeba posiadania kompetencji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nabywanie nowych lub doskonalenie już posiadanych umiejętnośc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olny kształt 12"/>
          <p:cNvSpPr/>
          <p:nvPr/>
        </p:nvSpPr>
        <p:spPr>
          <a:xfrm>
            <a:off x="468360" y="4005360"/>
            <a:ext cx="7775640" cy="5698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4. Realistyczne postrzeganie rzeczywistośc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owolny kształt 13"/>
          <p:cNvSpPr/>
          <p:nvPr/>
        </p:nvSpPr>
        <p:spPr>
          <a:xfrm>
            <a:off x="468360" y="2781360"/>
            <a:ext cx="7775640" cy="11779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389160" anchor="b">
            <a:noAutofit/>
          </a:bodyPr>
          <a:p>
            <a:pPr algn="ctr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3. Poczucie emocjonalnego bezpieczeństwa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iąże się z realistycznym poziomem samoakceptacji, który obejmuje zarówno umiejętność optymistycznego godzenia się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własnymi słabościami, jak i tolerancją na różnego typu frustracj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wolny kształt 14"/>
          <p:cNvSpPr/>
          <p:nvPr/>
        </p:nvSpPr>
        <p:spPr>
          <a:xfrm>
            <a:off x="468360" y="2276640"/>
            <a:ext cx="7775640" cy="48564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82440" bIns="357840" anchor="ctr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2. Okazywanie ciepła w relacjach z innymi ludźmi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owolny kształt 16"/>
          <p:cNvSpPr/>
          <p:nvPr/>
        </p:nvSpPr>
        <p:spPr>
          <a:xfrm>
            <a:off x="468360" y="1125360"/>
            <a:ext cx="7775640" cy="1151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128160" bIns="403560" anchor="b">
            <a:noAutofit/>
          </a:bodyPr>
          <a:p>
            <a:pPr algn="ctr">
              <a:lnSpc>
                <a:spcPct val="90000"/>
              </a:lnSpc>
              <a:spcAft>
                <a:spcPts val="737"/>
              </a:spcAft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1. Udzielanie się na zewnątrz – </a:t>
            </a: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angażowanie się w aktywność jest cechą dojrzałej osobowości. Im bardziej człowiek włącza się w różnego typu działania związane </a:t>
            </a:r>
            <a:br>
              <a:rPr sz="1700"/>
            </a:br>
            <a:r>
              <a:rPr b="0" lang="pl-PL" sz="17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 innymi ludźmi, ideami lub zadaniami, tym bardziej dojrzała jest jego osobowość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58:22Z</dcterms:created>
  <dc:creator>x</dc:creator>
  <dc:description/>
  <dc:language>en-US</dc:language>
  <cp:lastModifiedBy>Marta</cp:lastModifiedBy>
  <dcterms:modified xsi:type="dcterms:W3CDTF">2013-01-31T15:00:25Z</dcterms:modified>
  <cp:revision>65</cp:revision>
  <dc:subject/>
  <dc:title>Slajd 1</dc:title>
</cp:coreProperties>
</file>